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D410-51A3-45E8-8D46-5D3FD13E0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57B8-FD31-4420-9BED-B2048380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8583-51E2-4656-B896-BE0FF941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B18F-0FFB-40A9-8734-A6C8A960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7F1B-AB88-47DC-B0F9-9824E6F8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57CC-3444-4E4F-97C2-58CC40AF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4E8E-E34D-4F86-A517-7E118A6C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198D-0508-4CBE-BECE-29788875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AB9F-B740-4636-83B4-1D71EB0E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F7D8-E0E0-48C5-9BB5-70BA13C3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6C0A-2CF1-47EE-B48F-EE73076E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2D1A-EFC7-41B4-9F97-FB9B13AB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CFAF-3BA6-44FB-93CA-74211CD7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522F-69DA-46B7-B132-89382050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27E6-B345-4F4B-ABA8-A19FE0F0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1D3E-C3AA-4B57-9482-DA0490F2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7BFD-CAD1-43EE-A6F4-380B094D4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38F7-2CF5-41BE-8192-F09B2003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5537-E958-4F49-B210-305AB5C5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8016-2B8C-4A8B-B515-2CECE593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4A3F-8C40-4E37-9A18-7A117B55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AE54-33E7-4461-B5E2-DD49E593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AD7E-F13D-4D8B-AF8D-BCD2B6CC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AADC-3DC0-4305-A83A-75A192A1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6E2F-C58A-48B5-9E6E-36CE625EADC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2419-0045-4310-8531-96A8C229CCC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2597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élé«faux»realité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249120" y="103320"/>
            <a:ext cx="8888400" cy="171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clinton.gillespie\Pictures\0.jpg"/>
          <p:cNvPicPr/>
          <p:nvPr/>
        </p:nvPicPr>
        <p:blipFill>
          <a:blip r:embed="rId2"/>
          <a:stretch/>
        </p:blipFill>
        <p:spPr>
          <a:xfrm>
            <a:off x="2286000" y="22399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3" descr=""/>
          <p:cNvPicPr/>
          <p:nvPr/>
        </p:nvPicPr>
        <p:blipFill>
          <a:blip r:embed="rId1"/>
          <a:stretch/>
        </p:blipFill>
        <p:spPr>
          <a:xfrm>
            <a:off x="1828800" y="12600"/>
            <a:ext cx="5870520" cy="1474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Placeholder 6" descr=""/>
          <p:cNvPicPr/>
          <p:nvPr/>
        </p:nvPicPr>
        <p:blipFill>
          <a:blip r:embed="rId2"/>
          <a:stretch/>
        </p:blipFill>
        <p:spPr>
          <a:xfrm>
            <a:off x="1736640" y="1542960"/>
            <a:ext cx="6316920" cy="46688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828800" y="1166400"/>
            <a:ext cx="5486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5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Placeholder 4" descr=""/>
          <p:cNvPicPr/>
          <p:nvPr/>
        </p:nvPicPr>
        <p:blipFill>
          <a:blip r:embed="rId2"/>
          <a:stretch/>
        </p:blipFill>
        <p:spPr>
          <a:xfrm>
            <a:off x="2133720" y="1523880"/>
            <a:ext cx="530532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719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Users\clinton.gillespie\Pictures\001.jpeg"/>
          <p:cNvPicPr/>
          <p:nvPr/>
        </p:nvPicPr>
        <p:blipFill>
          <a:blip r:embed="rId2"/>
          <a:stretch/>
        </p:blipFill>
        <p:spPr>
          <a:xfrm>
            <a:off x="971640" y="1928880"/>
            <a:ext cx="720072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n renard!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7" name="Picture 2" descr="C:\Users\clinton.gillespie\Pictures\f8.jpg"/>
          <p:cNvPicPr/>
          <p:nvPr/>
        </p:nvPicPr>
        <p:blipFill>
          <a:blip r:embed="rId2"/>
          <a:stretch/>
        </p:blipFill>
        <p:spPr>
          <a:xfrm>
            <a:off x="1695600" y="1523880"/>
            <a:ext cx="57528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23:48:41Z</dcterms:created>
  <dc:creator>A satisfied Microsoft Office User</dc:creator>
  <dc:description/>
  <dc:language>en-US</dc:language>
  <cp:lastModifiedBy>A satisfied Microsoft Office User</cp:lastModifiedBy>
  <dcterms:modified xsi:type="dcterms:W3CDTF">2011-02-25T02:46:02Z</dcterms:modified>
  <cp:revision>10</cp:revision>
  <dc:subject/>
  <dc:title>Pawn star$</dc:title>
</cp:coreProperties>
</file>